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208A-0273-45AB-861D-2A3CECB8E01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E1CB-7AC9-4516-B500-6F6518F829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65A5-6F33-42E3-8F2D-5BED512E6E4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4C3E-9F49-4E12-944D-40531D7CDFE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E684-8D39-4389-805F-BEC209040BA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95AE-9CFA-4D8B-BCE2-0654737F590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42CE-55A2-40B6-8D0C-4DC4C50DA94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99F1-E76F-4985-9767-934AFA51CC9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78EA-757D-4A11-A211-EA3C8CB5C87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57AE-69B5-4063-AA02-AEC458FA2EC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3992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d-indexer.org/fragen.html#fugman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92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9"/>
            <p:cNvSpPr/>
            <p:nvPr/>
          </p:nvSpPr>
          <p:spPr>
            <a:xfrm>
              <a:off x="468360" y="1341360"/>
              <a:ext cx="8675640" cy="71640"/>
            </a:xfrm>
            <a:prstGeom prst="rect">
              <a:avLst/>
            </a:prstGeom>
            <a:gradFill rotWithShape="0">
              <a:gsLst>
                <a:gs pos="0">
                  <a:srgbClr val="f1737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6"/>
          <p:cNvSpPr/>
          <p:nvPr/>
        </p:nvSpPr>
        <p:spPr>
          <a:xfrm>
            <a:off x="1403280" y="1700280"/>
            <a:ext cx="77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8000"/>
                </a:solidFill>
                <a:latin typeface="Tahoma"/>
              </a:rPr>
              <a:t>Regeln für den Schlagwortkatalog RSWK </a:t>
            </a:r>
            <a:br>
              <a:rPr sz="4400"/>
            </a:br>
            <a:r>
              <a:rPr b="0" lang="de-AT" sz="2800" spc="-1" strike="noStrike">
                <a:solidFill>
                  <a:srgbClr val="008000"/>
                </a:solidFill>
                <a:latin typeface="Tahoma"/>
              </a:rPr>
              <a:t>2. B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195640" y="4221000"/>
            <a:ext cx="640080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Verbund Bildung und Kul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Felizitas Byst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333399"/>
                </a:solidFill>
                <a:latin typeface="Tahoma"/>
              </a:rPr>
              <a:t>felizitas.bystedt@boku.ac.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Schöne Literatur, Jugendliteratur</a:t>
            </a:r>
            <a:r>
              <a:rPr b="0" lang="de-DE" sz="40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76000" y="1844280"/>
            <a:ext cx="766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ie werden nur beschlagwortet, wenn ein bestimmtes benennbares Thema oder Ereignis behandelt w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Dinosaurier – Kinder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Venedig ; Kunsthandel ; Kriminalfall ; Belletristische Darstell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§ 4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835280" y="1844280"/>
            <a:ext cx="7308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Weltanschauungen des Verfassers werden nicht berücksichtig es sei den es handelt sich um offizielle Aussa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ie Zielgruppe wird nur dann berücksichtigt, wenn dies einen wesentlichen Einfluss auf die Darstellung h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iehe Formschlagwörter: Schulbuch, Lehrbuch, Einführ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prach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26560" y="1844280"/>
            <a:ext cx="8317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Die RSWK gilt für alle Bibliotheken, von Büchereien, Schulbibliotheken bis hin zu wissenschaftlichen Bibliotheken und darüber hinaus andere thematisch erschließbare Doku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Weiter Nutzerkreis mit verschiedenem sprachlichen Zuga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Prinzip der Gebräuchlichke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Die Beschlagwortung erfolgt auf Deuts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§ 6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303280" y="184428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as Dokument wird als Ganzes erschlossen, nicht einzelne T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m Einzelfall können auch Teilaspekte berücksichtigt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Titel: Politische Systeme in den baltischen Sta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WW Baltikum – Politisches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Grundbegriffe § 2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843280" y="2133360"/>
            <a:ext cx="6300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s gibt zwei Verfahren der Indexier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Gleichordnendes Index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Syntaktisches Index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(gewichtetes Indexie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Gleichordnendes Indexier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6840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chlagwörter werden dem Dokument unstrukturiert zugeordnet. Alle stehen  gleichrangig nebenein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PKW Export Importbeschränkungen Transportkosten Deutschland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yntaktisches Indexier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295280" y="2421000"/>
            <a:ext cx="7848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yntaktisches Indexier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03280" y="184428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chlagwörter, die thematisch zusammenhängen, werden nebeneinander gestellt, ev. auch zusätzlich durch Rollen- oder Nachbarschaftoperatoren gekennzeichn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chlagwortfolg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303280" y="184428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ie Beschlagwortung nach RSW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st eine milde Form der syntaktischen Indexierung, es geht aber zunehmend in Richtung gleichordnendes Indexi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iehe auch § 13 und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chlagwortfolg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835280" y="1844280"/>
            <a:ext cx="7308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in Begriff wird durch ein Schlagwort repräsentie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in Thema durch die Schlagwortfol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er Dokumenteninhalt durch alle vergebenen SW in einer oder mehreren Fol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Ältere Bezeichnung ist die SW-K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Aufbau der RSWK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303280" y="2781000"/>
            <a:ext cx="6840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Loseblattausgabe und Einteilung in Paragraphen ermöglicht ständige Erweiter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§ 13 Schlagwortfolg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303280" y="184428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Kann ein Thema nicht durch ein einziges Schlagwort ausgedrückt werden, so bildet man eine Schlagwortfolge. Die SW einer Folge stehen in Beziehung zueinander, wie eine Art Kurz-Abstr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W-Folgen spielen vor allem bei der Relevanz-Prüfung eine Rol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§ 13 Schlagwortfolg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303280" y="184428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Früher waren oft mehrere Folgen vorgesehen, seit 2010 kann man, soweit die Verständlichkeit nicht leidet, Folgen zusammenfas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Ostalpen – Pflanzen – Tiere - Bildb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§ 13 Schlagwortfolg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050560" y="1844280"/>
            <a:ext cx="70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chlagwörter wie Beeinflussung, Vergleich,  Beziehung, Darstellung, Kritik werden nicht verwendet um Beziehungen zwischen Schlagwörtern auszudrüc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WW Staatsgrenze – Regionalstrukt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Reihenfolge der SW § 14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981080" y="2133360"/>
            <a:ext cx="6400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a) Personenschlagwö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b) Geographische/ethnographische 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Schlagwörter einschließlich 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Sprachbezeichnun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c) Sachschlagwö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d) Zeitschlagwö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Arial Unicode MS"/>
              </a:rPr>
              <a:t>e) Formschlagwö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chlagwortfolg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981080" y="21333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Österreich – Olympische Winterspiele - Olympiasieger – Geschichte 1988-2006 - Biographie</a:t>
            </a:r>
            <a:r>
              <a:rPr b="0" i="1" lang="de-AT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chlagwortfolg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907640" y="2924280"/>
            <a:ext cx="69058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Prax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Maximal 10 Schlagwörter pro Fo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Maximal 10 Folgen pro Datens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Ketten (Folgen-)index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23880" y="21333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Für einen Kettenindex sollen allerdings die Schlagwörter umgereiht = </a:t>
            </a:r>
            <a:r>
              <a:rPr b="1" lang="sv-S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ermutiert</a:t>
            </a:r>
            <a:r>
              <a:rPr b="0" lang="sv-SE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werden, damit unter jeden (sinnvollen) Schlagwort ein Eintrag entsteht.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Olympische Winterspiele - Olympiasieger – Österreich - Geschichte 1988-2006 – Biograp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Olympiasieger – Olympische Spiele - Österreich - Geschichte 1988-2006 - Biograp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8000"/>
                </a:solidFill>
                <a:latin typeface="Tahoma"/>
                <a:ea typeface="Times New Roman"/>
              </a:rPr>
              <a:t>Permu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2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lain" startAt="90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Grundkette mit drei Schlagwörte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Österreich – 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Abfallbeseitigung - 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Krankenh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1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2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903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a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2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a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Abfallbeseitigung – Krankenhaus – Öster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Krankenhaus – Abfallbeseitigung - Öster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Österreich - Abfallbeseitigung – Krankenh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8000"/>
                </a:solidFill>
                <a:latin typeface="Tahoma"/>
                <a:ea typeface="Times New Roman"/>
              </a:rPr>
              <a:t>Permu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2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Permutationen werden in Öster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nicht mehr eingetragen. Die DNB vergi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 </a:t>
            </a:r>
            <a:r>
              <a:rPr b="0" lang="de-DE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noch Permutationsanga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Über einen Wegfall wird internat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diskuti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Änderungen im Regel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2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Änderungen werden nicht imm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nachvollz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333399"/>
                </a:solidFill>
                <a:uFillTx/>
                <a:latin typeface="Arial Unicode MS"/>
                <a:ea typeface="Arial Unicode MS"/>
              </a:rPr>
              <a:t>Altes Schlagwort – alte Rege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333399"/>
                </a:solidFill>
                <a:uFillTx/>
                <a:latin typeface="Arial Unicode MS"/>
                <a:ea typeface="Arial Unicode MS"/>
              </a:rPr>
              <a:t>Alte Beschlagwortung – alte Rege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Aufbau der RSWK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76000" y="1557360"/>
            <a:ext cx="766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Grundrege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inzelne Schlagwortkategor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z.B. Personen-SW, Sach-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onderregel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z.B. Körperschaften, Wörterbücher, 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Rechtsmaterialien, Filme, Kinder- und 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Jugendliteratur, elektronische Publik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Anlagen </a:t>
            </a:r>
            <a:r>
              <a:rPr b="0" lang="de-A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z.B. Liste der Formschlagwö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eispiel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ach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pezif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303280" y="1700280"/>
            <a:ext cx="6840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Möglichst präzise, d.h. je nach Sachverhalt speziellere oder allgemeinere Schlagwör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Thema: Geschichte der 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WW: ETA – Geschich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Nicht Baskenland, Unabhängigkeitsbeweg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pezif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82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er sachliche Kontext und der weitere Zusammenhang (Hierarchie – Oberbegriff) wird über die SWD abgedeck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Thema: HP LaserJet 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WW:  HP LaserJet IV (das SW hat den OB Laserdruck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Nicht:  HP LaserJet IV – Laserdruc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Beispiel für die </a:t>
            </a:r>
            <a:r>
              <a:rPr b="1" lang="de-DE" sz="4000" spc="-1" strike="noStrike">
                <a:solidFill>
                  <a:srgbClr val="008000"/>
                </a:solidFill>
                <a:latin typeface="Tahoma"/>
              </a:rPr>
              <a:t> Beschlagwort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995640" y="2133720"/>
            <a:ext cx="4680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Didaktik der Informatik  / von Sigrid Schubert, Andreas Schwill . - 2 . - Heidelberg  : Spektrum Akademischer Verlag , 20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Informatikunterricht - Fachdidak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68360" y="1557360"/>
            <a:ext cx="8675640" cy="7128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6384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Verlinkung</a:t>
            </a:r>
            <a:r>
              <a:rPr b="0" lang="de-DE" sz="4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de-DE" sz="4000" spc="-1" strike="noStrike">
                <a:solidFill>
                  <a:srgbClr val="008000"/>
                </a:solidFill>
                <a:latin typeface="Tahoma"/>
              </a:rPr>
              <a:t>bei der Beschlagwort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02920" y="2133720"/>
            <a:ext cx="6978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ei der Beschlagwortung werden die Titeldatensätze mit einzelnen Schlagwörtern aus der SWD verlin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Keine Rechtschreibfeh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Zentrale Änderungen werden in den Titeldatensätzen nachgez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68360" y="1557360"/>
            <a:ext cx="8675640" cy="7128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Verlinkung</a:t>
            </a:r>
            <a:r>
              <a:rPr b="0" lang="de-DE" sz="4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de-DE" sz="4000" spc="-1" strike="noStrike">
                <a:solidFill>
                  <a:srgbClr val="008000"/>
                </a:solidFill>
                <a:latin typeface="Tahoma"/>
              </a:rPr>
              <a:t>bei der Beschlagwort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402920" y="2133720"/>
            <a:ext cx="6978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Jedes Schlagwort wird verlin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Ausnahme: Zeitschlagwörter und Formschlagwö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as Schlagwort sollte vor dem Verlinken bereits bekannt sein. Eine Suche nach den engsten Schlagwort und wandern zwischen den Datensätzen  ist nicht mögli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68360" y="1557360"/>
            <a:ext cx="8675640" cy="7128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Verlinkung</a:t>
            </a:r>
            <a:r>
              <a:rPr b="0" lang="de-DE" sz="4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de-DE" sz="4000" spc="-1" strike="noStrike">
                <a:solidFill>
                  <a:srgbClr val="008000"/>
                </a:solidFill>
                <a:latin typeface="Tahoma"/>
              </a:rPr>
              <a:t>bei der Beschlagwort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02920" y="2133720"/>
            <a:ext cx="6978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Lesen der Hinweise über die Verwendung und die Definition im Datensat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„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Verküpft“ bedeutet: Es werden zwei SW getrennt voneinander verwendet und mit der Normdatei verlinkt. Es wird meist angegeben, welche SW zu verwenden si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68360" y="1557360"/>
            <a:ext cx="8675640" cy="7128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</a:rPr>
              <a:t>Buchbearbeitu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834920" y="2636640"/>
            <a:ext cx="693396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Formale Erfassung der Doku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Inhaltliche Erschließ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mit unterschiedlichen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4716360" y="33577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Prozesse</a:t>
            </a:r>
            <a:r>
              <a:rPr b="0" lang="de-DE" sz="4000" spc="-1" strike="noStrike">
                <a:solidFill>
                  <a:srgbClr val="008000"/>
                </a:solidFill>
                <a:latin typeface="Tahoma"/>
              </a:rPr>
              <a:t>  der Inhaltserschließ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47920" y="1599840"/>
            <a:ext cx="7238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</a:rPr>
              <a:t>Inhaltsanalyse und Inhaltsdarstel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</a:rPr>
              <a:t>Indexieren ist laut </a:t>
            </a:r>
            <a:r>
              <a:rPr b="0" lang="de-AT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Fugmann</a:t>
            </a:r>
            <a:r>
              <a:rPr b="0" lang="de-AT" sz="2800" spc="-1" strike="noStrike">
                <a:solidFill>
                  <a:srgbClr val="333399"/>
                </a:solidFill>
                <a:latin typeface="Tahoma"/>
              </a:rPr>
              <a:t> (1999, S. 216) ein „Zweistufiger Prozess für</a:t>
            </a:r>
            <a:br>
              <a:rPr sz="2800"/>
            </a:br>
            <a:r>
              <a:rPr b="0" lang="de-AT" sz="2800" spc="-1" strike="noStrike">
                <a:solidFill>
                  <a:srgbClr val="333399"/>
                </a:solidFill>
                <a:latin typeface="Tahoma"/>
              </a:rPr>
              <a:t>a) das Erkennen der Essenz eines Textes und</a:t>
            </a:r>
            <a:br>
              <a:rPr sz="2800"/>
            </a:br>
            <a:r>
              <a:rPr b="0" lang="de-AT" sz="2800" spc="-1" strike="noStrike">
                <a:solidFill>
                  <a:srgbClr val="333399"/>
                </a:solidFill>
                <a:latin typeface="Tahoma"/>
              </a:rPr>
              <a:t>b) das Wiedergeben dieser Essenz in einer ausreichend gut voraussehbaren und ausreichend wiedergabetreuen, d. h. indexsprachigen Form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</a:rPr>
              <a:t>Begriffe - Bezeichn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752480" y="21337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333399"/>
                </a:solidFill>
                <a:uFillTx/>
                <a:latin typeface="Tahoma"/>
              </a:rPr>
              <a:t>Schritte der Inhaltserschließ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Orientieren über den Inh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Es entstehen Begriff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geistig-gedankliche Vorstellungen von Gegenständen und Inhal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Begriff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2388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Je nach Abstraktionsniveau unterscheidet man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Kateg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Allgemeinbegr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</a:rPr>
              <a:t>Individualbegr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Grundregel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§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303280" y="184428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nhaltserschließung für Bibliotheksbestände und darüber hin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rgänzung durch Klassifik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rgänzung durch maschinelle Index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Abstimmung mit 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Vorrangig für Online-Katalo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Begriff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2057400"/>
          <a:ext cx="7315200" cy="3962520"/>
        </p:xfrm>
        <a:graphic>
          <a:graphicData uri="http://schemas.openxmlformats.org/drawingml/2006/table">
            <a:tbl>
              <a:tblPr/>
              <a:tblGrid>
                <a:gridCol w="2438640"/>
                <a:gridCol w="2438280"/>
                <a:gridCol w="2438280"/>
              </a:tblGrid>
              <a:tr h="91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Kategor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llgemeinbegri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Individualbegri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gen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W-Go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ographic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u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n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te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ÖV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Begriffe - Bezeichnung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523880" y="23623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Für die Begriffe werden Bezeichnungen = Benennungen = Repräsentanten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 ausgewäh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523880" y="4038480"/>
            <a:ext cx="7391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rgebnis: eine Art Metadaten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inhaltsbezogene Meta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Bezeichnung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23880" y="236232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ie können der natürlichen Sprache entnommen sein oder einem Zeichensystem z.B. die Notation einer Klassifikation.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Sie bilden die Vokabel einer Dokumentationsspra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Bezeichnung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10920" y="1628280"/>
            <a:ext cx="6140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m Falle der Beschlagwortung nach RSWK werden die Schlagwörter der Schlagwortnormdatei (SWD) entnom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eschlagwortung ist „Übersetzung“ der gedanklichen Vorstellungen des Buchinhaltes in Schlagwö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Inhalt nicht der Ti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312720" y="2276640"/>
            <a:ext cx="5219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Hauptt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Nebenasp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Zeitlicher K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Aussagen über Pers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99"/>
                </a:solidFill>
                <a:latin typeface="Tahoma"/>
              </a:rPr>
              <a:t>Örtliche Einschrä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626920" y="3284280"/>
            <a:ext cx="6948360" cy="60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90303"/>
                </a:solidFill>
                <a:latin typeface="Tahoma"/>
                <a:ea typeface="Times New Roman"/>
              </a:rPr>
              <a:t>Brauchtum, Bräuche, Volkskultur</a:t>
            </a:r>
            <a:r>
              <a:rPr b="0" lang="de-DE" sz="3200" spc="-1" strike="noStrike">
                <a:solidFill>
                  <a:srgbClr val="d90303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1844640"/>
            <a:ext cx="820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ahoma"/>
              </a:rPr>
              <a:t>Ein Buch über Bräuche Mitteleuropas im 19. Jahrhund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971640" y="3357720"/>
            <a:ext cx="172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d90303"/>
                </a:solidFill>
                <a:uFillTx/>
                <a:latin typeface="Tahoma"/>
                <a:ea typeface="Times New Roman"/>
              </a:rPr>
              <a:t>Thema</a:t>
            </a:r>
            <a:r>
              <a:rPr b="0" lang="de-DE" sz="2800" spc="-1" strike="noStrike">
                <a:solidFill>
                  <a:srgbClr val="d90303"/>
                </a:solidFill>
                <a:latin typeface="Tahoma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d90303"/>
                </a:solidFill>
                <a:uFillTx/>
                <a:latin typeface="Tahoma"/>
                <a:ea typeface="Times New Roman"/>
              </a:rPr>
              <a:t>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d90303"/>
                </a:solidFill>
                <a:uFillTx/>
                <a:latin typeface="Tahoma"/>
                <a:ea typeface="Times New Roman"/>
              </a:rPr>
              <a:t>Ze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2195640" y="3860640"/>
            <a:ext cx="6948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90303"/>
                </a:solidFill>
                <a:latin typeface="Tahoma"/>
                <a:ea typeface="Times New Roman"/>
              </a:rPr>
              <a:t>Mitteleuropa, Österreich, Ostalpenra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195640" y="4437000"/>
            <a:ext cx="6948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90303"/>
                </a:solidFill>
                <a:latin typeface="Tahoma"/>
                <a:ea typeface="Times New Roman"/>
              </a:rPr>
              <a:t>Festtage</a:t>
            </a:r>
            <a:r>
              <a:rPr b="0" lang="de-DE" sz="2800" spc="-1" strike="noStrike">
                <a:solidFill>
                  <a:srgbClr val="d90303"/>
                </a:solidFill>
                <a:latin typeface="Tahoma"/>
                <a:ea typeface="Tahoma"/>
              </a:rPr>
              <a:t> 19. Jahrhundert, </a:t>
            </a:r>
            <a:r>
              <a:rPr b="0" lang="de-DE" sz="2800" spc="-1" strike="noStrike">
                <a:solidFill>
                  <a:srgbClr val="d90303"/>
                </a:solidFill>
                <a:latin typeface="Tahoma"/>
                <a:ea typeface="Times New Roman"/>
              </a:rPr>
              <a:t>Biedermeier, Geschichte 1800-1900, Zeit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539640" y="5445000"/>
            <a:ext cx="820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ahoma"/>
              </a:rPr>
              <a:t>Es handelt sich hier nicht um Schlagwörter sondern um Stichwör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8000"/>
                </a:solidFill>
                <a:latin typeface="Tahoma"/>
                <a:ea typeface="Times New Roman"/>
              </a:rPr>
              <a:t>Spezifität der Beschlagwortung</a:t>
            </a:r>
            <a:r>
              <a:rPr b="1" lang="de-AT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as Dokument wird möglichst spezifisch, präzise erschlossen, d.h. je nach Sachverhalt werden speziellere oder allgemeinere Schlagwörter verwendet.</a:t>
            </a: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  <a:ea typeface="Arial Unicode MS"/>
              </a:rPr>
              <a:t>Ergänzende Inhaltserschließung mit einer Klassifikation um einen breiteren Zugriff zu ermögli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rcRect l="8833" t="27293" r="35563" b="15674"/>
          <a:stretch/>
        </p:blipFill>
        <p:spPr>
          <a:xfrm>
            <a:off x="611280" y="1233360"/>
            <a:ext cx="7315200" cy="56246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Besonderh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Nicht ganz zum Schluss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303280" y="2133360"/>
            <a:ext cx="684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eschlagwortung ist keine Hü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eschlagwortungen nutzen über der Karlsruher Katalog (Ökonomisches Arbeiten), Vergleich mit alten Auflagen, Vergleich mit ähnlichen Büch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Zum Schluss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995640" y="2349000"/>
            <a:ext cx="468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Genau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ich Zeit ne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Hie und da RSWK öff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ie eigenen Stärken in die Beschlagwortung einb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Grundbegriffe §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908000" y="1844280"/>
            <a:ext cx="6840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nhaltserschließung: verbale und klassifikatoris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WD (Schlagwortnormdatei) besteht aus Datensätzen mit bestimmten Kategorien = Feld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ndexieren = Beschlagw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§ 3 Zu erschließende Dokumente</a:t>
            </a:r>
            <a:r>
              <a:rPr b="0" lang="de-DE" sz="40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303280" y="184428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Alle in einer Bibliothek vorhandenen selbständig erschienenen Doku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Darüber hinaus wird im jeweiligen nach Verbund festgelegt 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Artikel, Telefonbücher, Vorlesungsverzeichnisse, schöne Literatur, Jugendliteratur, Musiktonträger, elektronische Materialien us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Bearbeite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Dokumentarische Bezugseinh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235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Selbständige und unselbständige Dokumente, Bücher mit verschiedenen Beiträ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Die Ebene auf der die Dokumentation erfolgt ist die </a:t>
            </a:r>
            <a:r>
              <a:rPr b="0" lang="de-DE" sz="2800" spc="-1" strike="noStrike">
                <a:solidFill>
                  <a:srgbClr val="a85400"/>
                </a:solidFill>
                <a:latin typeface="Tahoma"/>
              </a:rPr>
              <a:t>dokumentarische Bezugseinheit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Ebene des B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Ebene des Beitr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3716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Mehrbändige Werke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303280" y="2276280"/>
            <a:ext cx="6840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.d.R wird das Gesamtwerk erschlossen, Einzelbände dann, wenn es sich um ein abgrenzbares Thema hande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8000"/>
                </a:solidFill>
                <a:latin typeface="Tahoma"/>
                <a:ea typeface="Times New Roman"/>
              </a:rPr>
              <a:t>Schriftenreihen</a:t>
            </a:r>
            <a:r>
              <a:rPr b="0" lang="de-DE" sz="4400" spc="-1" strike="noStrike">
                <a:solidFill>
                  <a:srgbClr val="008000"/>
                </a:solidFill>
                <a:latin typeface="Tahoma"/>
              </a:rPr>
              <a:t>, Zeitschrif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303280" y="2276280"/>
            <a:ext cx="6840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I.d.R wird nur der Stücktitel ersch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Bei Zeitschriften werden Stücktitel und Gesamttitel erschloss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68360" y="1341360"/>
            <a:ext cx="8675640" cy="71640"/>
          </a:xfrm>
          <a:prstGeom prst="rect">
            <a:avLst/>
          </a:prstGeom>
          <a:gradFill rotWithShape="0">
            <a:gsLst>
              <a:gs pos="0">
                <a:srgbClr val="f1737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09:21:59Z</dcterms:created>
  <dc:creator>felizitas</dc:creator>
  <dc:description/>
  <dc:language>en-US</dc:language>
  <cp:lastModifiedBy>Christine Hinterhofer</cp:lastModifiedBy>
  <dcterms:modified xsi:type="dcterms:W3CDTF">2011-09-05T15:28:47Z</dcterms:modified>
  <cp:revision>87</cp:revision>
  <dc:subject/>
  <dc:title>Bild 1</dc:title>
</cp:coreProperties>
</file>